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793-B9E0-4D87-8DD7-366689C5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CB2A-7448-418B-ADE1-FB60514E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5D7-3496-40BF-9EB3-CEAD8B3A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66A-EF46-4E73-A816-7FE2EFD1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9403-7060-4959-96BF-C3DAFB10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FB38-0754-44DD-AE3E-E8AFC146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DB5D-1FB0-478B-81E2-F9E00307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8919-6A81-4ACF-A301-629F6CA8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34AA-3A0F-46C6-8A06-CB722F5F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6176-FB00-4520-A7A9-0159DFFF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E0AE-3909-4AE8-84D5-8D7459BD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F62-B5C7-47D7-9600-346945B7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B02F-BC8D-488A-AA53-404CCAD5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58F8-CFCD-4D51-87B5-04B5FBCE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60D8-21FC-4AA4-BC62-7B142164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9B27-2CF0-4156-B73D-81CA684C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3402-9427-49AB-B41C-181FDFB1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F5C-F939-4234-9886-C5A7E97A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56F-5C7C-4336-8E49-6438686B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2D5-6AB2-4B8D-888A-8B8B765E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669-7697-4D13-8D3E-D8B58C2F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444-8B9D-47A2-8665-C1DADD32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08A-DDB7-46F1-9F3F-664AFB87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732-010C-480E-B4A6-8A5C347B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4124-B080-46D6-AC68-3890358A2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0FFD-B229-490B-A353-36EBACC285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obile_radio_telephone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treaming.factsonfile.com/PortalPlaylists.aspx?aid=7168&amp;xtid=10461&amp;loid=19744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240" y="2369880"/>
            <a:ext cx="8915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Unit 4: </a:t>
            </a:r>
            <a:r>
              <a:rPr b="0" lang="en-US" sz="5100" spc="-1" strike="noStrike">
                <a:solidFill>
                  <a:srgbClr val="009999"/>
                </a:solidFill>
                <a:latin typeface="Arial"/>
              </a:rPr>
              <a:t>Industrial Revolution!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47920" y="-22896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lease take an </a:t>
            </a:r>
            <a:r>
              <a:rPr b="1" lang="en-US" sz="2900" spc="-1" strike="noStrike">
                <a:solidFill>
                  <a:srgbClr val="ff6600"/>
                </a:solidFill>
                <a:latin typeface="Verdana"/>
              </a:rPr>
              <a:t>ORANGE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handout – This is your </a:t>
            </a:r>
            <a:r>
              <a:rPr b="1" i="1" lang="en-US" sz="2900" spc="-1" strike="noStrike">
                <a:solidFill>
                  <a:srgbClr val="ffffff"/>
                </a:solidFill>
                <a:latin typeface="Verdana"/>
              </a:rPr>
              <a:t>Extra Credit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opportunity for Semester On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wo options – can only do on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Due: January 9, 2012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219320" y="4419720"/>
            <a:ext cx="69339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Today in History: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Nov 18, 1883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 exactly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o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on this day, American and Canadian railroads begin using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ur continental time zon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o end the confusion of dealing with thousands of local times. The bold move was emblematic of the power shared by the railroad compani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ONUS QUESTION: 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Do you know how many time zones the United States has today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en was this invented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cell phone?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Depends on your definition… anytime between 1973 (1 G network) to 2009 (4 G network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Any mobile phone?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– Patent issued for first wireless phone in 1969, but ideas circulating since 1940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2" name="Picture 5" descr="ANd9GcQthM2iqJ_0EuaLBAh0cZo0QDZJd9HrVEn0NKwCHhba1dBTWYm4qfFW7mEbqw"/>
          <p:cNvPicPr/>
          <p:nvPr/>
        </p:nvPicPr>
        <p:blipFill>
          <a:blip r:embed="rId1"/>
          <a:stretch/>
        </p:blipFill>
        <p:spPr>
          <a:xfrm>
            <a:off x="5410080" y="1828800"/>
            <a:ext cx="3299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en was this invented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cell phone?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Depends on your definition… anytime between 1973 (1 G network) to 2009 (4 G network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y mobile phone?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Patent issued for first wireless phone in 1969, but ideas circulating since 1940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Mobile communication device?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–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1940s mobile 2-way Motorola radi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Picture 5" descr="220px-Mobile_radio_teleph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4267080"/>
            <a:ext cx="228600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en was this invented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15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ern cell phon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Depends on your definition… anytime between 1973 (1 G network) to 2009 (4 G network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y mobile phon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Patent issued for first wireless phone in 1969, but ideas circulating since 1940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bile communication devic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40s mobile 2-way Motorola radio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lephone?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187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Picture 5" descr="antiquetelephone"/>
          <p:cNvPicPr/>
          <p:nvPr/>
        </p:nvPicPr>
        <p:blipFill>
          <a:blip r:embed="rId1"/>
          <a:stretch/>
        </p:blipFill>
        <p:spPr>
          <a:xfrm>
            <a:off x="6086520" y="1828800"/>
            <a:ext cx="28288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en was this invented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ern cell phon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Depends on your definition… anytime between 1973 (1 G network) to 2009 (4 G network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y mobile phon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Patent issued for first wireless phone in 1969, but ideas circulating since 1940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bile communication devic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1940s mobile two-way radio from Motorol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lephon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187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munication?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Since… foreve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5" descr="talking"/>
          <p:cNvPicPr/>
          <p:nvPr/>
        </p:nvPicPr>
        <p:blipFill>
          <a:blip r:embed="rId1"/>
          <a:stretch/>
        </p:blipFill>
        <p:spPr>
          <a:xfrm>
            <a:off x="762120" y="5029200"/>
            <a:ext cx="1828800" cy="1574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learn-sign-language-fast-800x800"/>
          <p:cNvPicPr/>
          <p:nvPr/>
        </p:nvPicPr>
        <p:blipFill>
          <a:blip r:embed="rId2"/>
          <a:stretch/>
        </p:blipFill>
        <p:spPr>
          <a:xfrm>
            <a:off x="3581280" y="5029200"/>
            <a:ext cx="1676520" cy="1639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goodall_2"/>
          <p:cNvPicPr/>
          <p:nvPr/>
        </p:nvPicPr>
        <p:blipFill>
          <a:blip r:embed="rId3"/>
          <a:stretch/>
        </p:blipFill>
        <p:spPr>
          <a:xfrm>
            <a:off x="6172200" y="4952880"/>
            <a:ext cx="17240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Let’s talk about technology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Workshe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When do you think these inventions were mad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6" name="Picture 5" descr="ANd9GcT-WKeV9IIOpViJ90YJvhXY2lvgzSKtPwtbrez7RZgqfZrugqEgSQ"/>
          <p:cNvPicPr/>
          <p:nvPr/>
        </p:nvPicPr>
        <p:blipFill>
          <a:blip r:embed="rId1"/>
          <a:stretch/>
        </p:blipFill>
        <p:spPr>
          <a:xfrm>
            <a:off x="2362320" y="3809880"/>
            <a:ext cx="38862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Let’s talk about technology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Workshe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When do you think these inventions were mad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Best guess with your BREAKFAST buddy!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Leave third column blank for now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9" name="Picture 4" descr="ANd9GcT-WKeV9IIOpViJ90YJvhXY2lvgzSKtPwtbrez7RZgqfZrugqEgSQ"/>
          <p:cNvPicPr/>
          <p:nvPr/>
        </p:nvPicPr>
        <p:blipFill>
          <a:blip r:embed="rId1"/>
          <a:stretch/>
        </p:blipFill>
        <p:spPr>
          <a:xfrm>
            <a:off x="2362320" y="3809880"/>
            <a:ext cx="38862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Now with your corrections…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ll in the third colum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CIDE: What effect this technology has had on our liv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EASIER and SAFER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More DIFFICULT or DANGEROUS?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sure you are able to explain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2" name="Picture 5" descr="02-youre-doing-it-wrong"/>
          <p:cNvPicPr/>
          <p:nvPr/>
        </p:nvPicPr>
        <p:blipFill>
          <a:blip r:embed="rId1"/>
          <a:stretch/>
        </p:blipFill>
        <p:spPr>
          <a:xfrm>
            <a:off x="4495680" y="1981080"/>
            <a:ext cx="46245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acket Activity #1 - Individua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s technology a good thing?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pport your response with specific exampl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5" name="Picture 4" descr="02-youre-doing-it-wrong"/>
          <p:cNvPicPr/>
          <p:nvPr/>
        </p:nvPicPr>
        <p:blipFill>
          <a:blip r:embed="rId1"/>
          <a:stretch/>
        </p:blipFill>
        <p:spPr>
          <a:xfrm>
            <a:off x="4495680" y="1981080"/>
            <a:ext cx="46245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Not another Lady Gaga video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dustrial Revolution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04:0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streaming.factsonfile.com/PortalPlaylists.aspx?aid=7168&amp;xtid=10461&amp;loid=1974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tretch Break!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0" name="Picture 5" descr="d00af_funny-dog-pictures-important-stretch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"/>
          <p:cNvPicPr/>
          <p:nvPr/>
        </p:nvPicPr>
        <p:blipFill>
          <a:blip r:embed="rId1"/>
          <a:srcRect l="0" t="0" r="0" b="43211"/>
          <a:stretch/>
        </p:blipFill>
        <p:spPr>
          <a:xfrm>
            <a:off x="1981080" y="223920"/>
            <a:ext cx="5029200" cy="16812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612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4400" spc="-1" strike="noStrike">
                <a:solidFill>
                  <a:srgbClr val="ff0505"/>
                </a:solidFill>
                <a:latin typeface="Arial"/>
              </a:rPr>
              <a:t> The </a:t>
            </a:r>
            <a:r>
              <a:rPr b="0" lang="en-US" sz="4400" spc="-1" strike="noStrike">
                <a:solidFill>
                  <a:srgbClr val="1c21e8"/>
                </a:solidFill>
                <a:latin typeface="Arial"/>
              </a:rPr>
              <a:t>Wa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 schedule as of next week will be chang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will still teach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nd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hour (B and D days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will ALSO now be teaching on A and C day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 least for a month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21e8"/>
                </a:solidFill>
                <a:latin typeface="Verdana"/>
              </a:rPr>
              <a:t>RESOURCE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on Tuesday morning – SS Lab, get pass from me!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c3aa"/>
                </a:solidFill>
                <a:latin typeface="Arial"/>
              </a:rPr>
              <a:t>People’s lives changed</a:t>
            </a: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… and it wasn’t all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nnies</a:t>
            </a: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ff0505"/>
                </a:solidFill>
                <a:latin typeface="Arial"/>
              </a:rPr>
              <a:t>roses</a:t>
            </a: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… 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are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fair working conditio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?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. 7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acket Activity Two - Individua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uld you (as a 15 year old) attempt to change your working conditions in the factory? How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Extra Food For Thought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Would you rather be working today than being in school? Why or why no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(you can include this with your answer for Activity Two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5" name="Picture 4" descr="B1EC19324A4340638C4457E577997CC5"/>
          <p:cNvPicPr/>
          <p:nvPr/>
        </p:nvPicPr>
        <p:blipFill>
          <a:blip r:embed="rId1"/>
          <a:stretch/>
        </p:blipFill>
        <p:spPr>
          <a:xfrm>
            <a:off x="228600" y="1609560"/>
            <a:ext cx="2790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Flip over your packet to the front…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eginn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dustrialization Changes Li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read of Industrializ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forming the Industrial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uiding Question: </a:t>
            </a:r>
            <a:r>
              <a:rPr b="0" i="1" lang="en-US" sz="3200" spc="-1" strike="noStrike">
                <a:solidFill>
                  <a:srgbClr val="009999"/>
                </a:solidFill>
                <a:latin typeface="Verdana"/>
              </a:rPr>
              <a:t>Was the Industrial Revolution a good thing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Flip over your packet to the front…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eginning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ustrialization Changes Li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read of Industrializ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forming the Industrial Wor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uiding Question: </a:t>
            </a:r>
            <a:r>
              <a:rPr b="0" i="1" lang="en-US" sz="2800" spc="-1" strike="noStrike">
                <a:solidFill>
                  <a:srgbClr val="009999"/>
                </a:solidFill>
                <a:latin typeface="Verdana"/>
              </a:rPr>
              <a:t>Was the Industrial Revolution a good thing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SESSMENT OPTIONS: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ssay or Te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Tuesday, Dec. 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y Britain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4" descr="Europemap-2010"/>
          <p:cNvPicPr/>
          <p:nvPr/>
        </p:nvPicPr>
        <p:blipFill>
          <a:blip r:embed="rId1"/>
          <a:stretch/>
        </p:blipFill>
        <p:spPr>
          <a:xfrm>
            <a:off x="1066680" y="1211400"/>
            <a:ext cx="7315200" cy="549432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5"/>
          <p:cNvSpPr/>
          <p:nvPr/>
        </p:nvSpPr>
        <p:spPr>
          <a:xfrm rot="17344800">
            <a:off x="2743200" y="2209320"/>
            <a:ext cx="2666880" cy="533520"/>
          </a:xfrm>
          <a:prstGeom prst="leftArrow">
            <a:avLst>
              <a:gd name="adj1" fmla="val 50000"/>
              <a:gd name="adj2" fmla="val 1249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y Britain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6" name="Picture 5" descr="britain"/>
          <p:cNvPicPr/>
          <p:nvPr/>
        </p:nvPicPr>
        <p:blipFill>
          <a:blip r:embed="rId1"/>
          <a:stretch/>
        </p:blipFill>
        <p:spPr>
          <a:xfrm>
            <a:off x="2514600" y="1762200"/>
            <a:ext cx="3772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y Britain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ci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litic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9" name="Picture 4" descr="britain"/>
          <p:cNvPicPr/>
          <p:nvPr/>
        </p:nvPicPr>
        <p:blipFill>
          <a:blip r:embed="rId1"/>
          <a:stretch/>
        </p:blipFill>
        <p:spPr>
          <a:xfrm>
            <a:off x="2514600" y="1762200"/>
            <a:ext cx="3772080" cy="38005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6400800" y="1600200"/>
            <a:ext cx="27432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conom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"/>
          <p:cNvPicPr/>
          <p:nvPr/>
        </p:nvPicPr>
        <p:blipFill>
          <a:blip r:embed="rId1"/>
          <a:srcRect l="0" t="0" r="0" b="43211"/>
          <a:stretch/>
        </p:blipFill>
        <p:spPr>
          <a:xfrm>
            <a:off x="2133720" y="0"/>
            <a:ext cx="5029200" cy="16812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rybook</a:t>
            </a:r>
            <a:r>
              <a:rPr b="0" lang="en-US" sz="4400" spc="-1" strike="noStrike">
                <a:solidFill>
                  <a:srgbClr val="ff0505"/>
                </a:solidFill>
                <a:latin typeface="Arial"/>
              </a:rPr>
              <a:t> Groups: </a:t>
            </a:r>
            <a:r>
              <a:rPr b="0" lang="en-US" sz="4400" spc="-1" strike="noStrike">
                <a:solidFill>
                  <a:srgbClr val="1c21e8"/>
                </a:solidFill>
                <a:latin typeface="Arial"/>
              </a:rPr>
              <a:t>Check-I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21e8"/>
                </a:solidFill>
                <a:latin typeface="Verdana"/>
              </a:rPr>
              <a:t>10 MINUTES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o check in with your grou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ndividual progress on </a:t>
            </a:r>
            <a:r>
              <a:rPr b="0" lang="en-US" sz="2200" spc="-1" strike="noStrike" u="sng">
                <a:solidFill>
                  <a:srgbClr val="ff0505"/>
                </a:solidFill>
                <a:uFillTx/>
                <a:latin typeface="Verdana"/>
              </a:rPr>
              <a:t>chapters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505"/>
                </a:solidFill>
                <a:uFillTx/>
                <a:latin typeface="Verdana"/>
              </a:rPr>
              <a:t>Book cover</a:t>
            </a:r>
            <a:r>
              <a:rPr b="0" lang="en-US" sz="2200" spc="-1" strike="noStrike">
                <a:solidFill>
                  <a:srgbClr val="ff0505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505"/>
                </a:solidFill>
                <a:uFillTx/>
                <a:latin typeface="Verdana"/>
              </a:rPr>
              <a:t>Chapter 5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– Consider my revision sheet from Wednesday. Is a draft ready to be typed?  </a:t>
            </a:r>
            <a:r>
              <a:rPr b="1" i="1" lang="en-US" sz="2200" spc="-1" strike="noStrike">
                <a:solidFill>
                  <a:srgbClr val="ffffff"/>
                </a:solidFill>
                <a:latin typeface="Verdana"/>
              </a:rPr>
              <a:t>This chapter does not need to be “storybook.” Think of it as an “Afterword” or “Author’s Note.”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"/>
          <p:cNvPicPr/>
          <p:nvPr/>
        </p:nvPicPr>
        <p:blipFill>
          <a:blip r:embed="rId1"/>
          <a:srcRect l="0" t="0" r="0" b="43211"/>
          <a:stretch/>
        </p:blipFill>
        <p:spPr>
          <a:xfrm>
            <a:off x="2133720" y="0"/>
            <a:ext cx="5029200" cy="16812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rybook</a:t>
            </a:r>
            <a:r>
              <a:rPr b="0" lang="en-US" sz="4400" spc="-1" strike="noStrike">
                <a:solidFill>
                  <a:srgbClr val="ff0505"/>
                </a:solidFill>
                <a:latin typeface="Arial"/>
              </a:rPr>
              <a:t> Groups: </a:t>
            </a:r>
            <a:r>
              <a:rPr b="0" lang="en-US" sz="4400" spc="-1" strike="noStrike">
                <a:solidFill>
                  <a:srgbClr val="1c21e8"/>
                </a:solidFill>
                <a:latin typeface="Arial"/>
              </a:rPr>
              <a:t>Check-I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21e8"/>
                </a:solidFill>
                <a:latin typeface="Verdana"/>
              </a:rPr>
              <a:t>10 MINUTES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o check in with your grou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ndividual progress on </a:t>
            </a:r>
            <a:r>
              <a:rPr b="0" lang="en-US" sz="2200" spc="-1" strike="noStrike" u="sng">
                <a:solidFill>
                  <a:srgbClr val="ff0505"/>
                </a:solidFill>
                <a:uFillTx/>
                <a:latin typeface="Verdana"/>
              </a:rPr>
              <a:t>chapters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505"/>
                </a:solidFill>
                <a:uFillTx/>
                <a:latin typeface="Verdana"/>
              </a:rPr>
              <a:t>Book cover</a:t>
            </a:r>
            <a:r>
              <a:rPr b="0" lang="en-US" sz="2200" spc="-1" strike="noStrike">
                <a:solidFill>
                  <a:srgbClr val="ff0505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505"/>
                </a:solidFill>
                <a:uFillTx/>
                <a:latin typeface="Verdana"/>
              </a:rPr>
              <a:t>Chapter 5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– Consider my revision sheet from Wednesday. Is a draft ready to be typed?  </a:t>
            </a:r>
            <a:r>
              <a:rPr b="1" i="1" lang="en-US" sz="2200" spc="-1" strike="noStrike">
                <a:solidFill>
                  <a:srgbClr val="ffffff"/>
                </a:solidFill>
                <a:latin typeface="Verdana"/>
              </a:rPr>
              <a:t>This chapter does not need to be “storybook.” Think of it as an “Afterword” or “Author’s Note.”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UE TUESDAY – You have 5 minutes on Tuesday at the beginning of class to assemble your book. </a:t>
            </a:r>
            <a:r>
              <a:rPr b="0" lang="en-US" sz="2200" spc="-1" strike="noStrike" u="sng">
                <a:solidFill>
                  <a:srgbClr val="ff0505"/>
                </a:solidFill>
                <a:uFillTx/>
                <a:latin typeface="Verdana"/>
              </a:rPr>
              <a:t>NO LAST MINUTE PRINTING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. No late work coupons. If turned in after break… Up to ½ credi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21e8"/>
                </a:solidFill>
                <a:latin typeface="Verdana"/>
              </a:rPr>
              <a:t>RESOURCE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on Tuesday morning – SS Lab, get pass from me!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New Buddies… New System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EAKFA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N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NN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SE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Picture 5" descr="breakfast"/>
          <p:cNvPicPr/>
          <p:nvPr/>
        </p:nvPicPr>
        <p:blipFill>
          <a:blip r:embed="rId1"/>
          <a:stretch/>
        </p:blipFill>
        <p:spPr>
          <a:xfrm>
            <a:off x="6095880" y="1219320"/>
            <a:ext cx="1947960" cy="1488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school_lunches_13"/>
          <p:cNvPicPr/>
          <p:nvPr/>
        </p:nvPicPr>
        <p:blipFill>
          <a:blip r:embed="rId2"/>
          <a:stretch/>
        </p:blipFill>
        <p:spPr>
          <a:xfrm>
            <a:off x="1676520" y="2438280"/>
            <a:ext cx="1828800" cy="1360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1" descr="thanksgiving+dinner"/>
          <p:cNvPicPr/>
          <p:nvPr/>
        </p:nvPicPr>
        <p:blipFill>
          <a:blip r:embed="rId3"/>
          <a:stretch/>
        </p:blipFill>
        <p:spPr>
          <a:xfrm>
            <a:off x="5791320" y="32767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for_cakes_only_dessert_deli_me_p1"/>
          <p:cNvPicPr/>
          <p:nvPr/>
        </p:nvPicPr>
        <p:blipFill>
          <a:blip r:embed="rId4"/>
          <a:stretch/>
        </p:blipFill>
        <p:spPr>
          <a:xfrm>
            <a:off x="990720" y="4648320"/>
            <a:ext cx="23907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New Buddies… New System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BREAKFAST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 partner – someone N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UNCH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– Group of 3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DINNER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– Group of 4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SSERT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– 1 partner – this person should not be in any other of your groups/pairs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Picture 4" descr="thanksgiving+dinner"/>
          <p:cNvPicPr/>
          <p:nvPr/>
        </p:nvPicPr>
        <p:blipFill>
          <a:blip r:embed="rId1"/>
          <a:stretch/>
        </p:blipFill>
        <p:spPr>
          <a:xfrm>
            <a:off x="5791320" y="251460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en was this invented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5" descr="cellphone_cat"/>
          <p:cNvPicPr/>
          <p:nvPr/>
        </p:nvPicPr>
        <p:blipFill>
          <a:blip r:embed="rId1"/>
          <a:stretch/>
        </p:blipFill>
        <p:spPr>
          <a:xfrm>
            <a:off x="990720" y="1295280"/>
            <a:ext cx="68580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en was </a:t>
            </a:r>
            <a:r>
              <a:rPr b="1" lang="en-US" sz="4400" spc="-1" strike="noStrike" u="sng">
                <a:solidFill>
                  <a:srgbClr val="c4c3aa"/>
                </a:solidFill>
                <a:uFillTx/>
                <a:latin typeface="Arial"/>
              </a:rPr>
              <a:t>this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 invented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Picture 8" descr="cell_phones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en was this invented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l, it depends on what you’re referring to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ern cell phone?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Depends on your definition… anytime between 1973 (1 G network) to 2009 (4 G networ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9" name="Picture 5" descr="cell_phones"/>
          <p:cNvPicPr/>
          <p:nvPr/>
        </p:nvPicPr>
        <p:blipFill>
          <a:blip r:embed="rId1"/>
          <a:stretch/>
        </p:blipFill>
        <p:spPr>
          <a:xfrm>
            <a:off x="2666880" y="4114800"/>
            <a:ext cx="411480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23:39:06Z</dcterms:created>
  <dc:creator>MCPASD</dc:creator>
  <dc:description/>
  <dc:language>en-US</dc:language>
  <cp:lastModifiedBy>Meri</cp:lastModifiedBy>
  <dcterms:modified xsi:type="dcterms:W3CDTF">2011-11-21T03:43:34Z</dcterms:modified>
  <cp:revision>26</cp:revision>
  <dc:subject/>
  <dc:title>Industrial Revolution</dc:title>
</cp:coreProperties>
</file>